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0B2-964E-4C92-BC14-4F2DE350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C5A-6A2A-4291-8D14-DC55CD89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2A0-F1B1-4730-83D2-0B592A05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969-71D0-485A-8CF6-D07545BB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A3B-F881-466D-87F7-96244D26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007-D893-4194-B476-64B6A34B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C9D-9C23-4719-B95D-60C4FCE4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E72-FFA6-44C9-B98C-FB050810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59E-71D6-4AE6-B1DF-E85C893D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F65-3377-46BE-96C8-EA3BE892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CC5-105D-4BAE-A3FD-DE6C86D4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3F2-6EB1-4CC3-BFC3-7ABEDCF3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D695-35B6-4A60-884C-3685F5FB7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of revolutions would most likely lead to the conclusion that pre-Revolutionary governmen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ore concerned about human rights than the governments that replace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 to modernize their armed forces with advanced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bring about the separation of government from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 to meet the political and economic needs of their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ment is a valid generalization about the immediate results of the French Revolution of 1789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 Catholic Church increased its power and w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volution achieved its goal of establishing peace, democracy, and justice for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volution had little impact outside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nch middle class gained more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n Rev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situations was the direct result of the other thre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s of Latin America won indepen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s occurred in North America and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poleonic wars weakened Spain’s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oles and mestizos became discontented with Spanish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 Rev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jor result of the Industrial Revolution was th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of workers in urban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desire of the wealthy class to share its 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on of powerful craft guil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f agricultural production by govern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cause of the Russian Revolution of 1917 was th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 of Germany in the Russian campa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 of Czar Nicholas II to a German prin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ce of sharp economic differences between social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 of Marxism to the Russian no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Communist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World War II, the Chinese Communists were successful in their revolution mainly because th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 refused to support the Nationa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sts had the support of the peas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sts had more technologically advanced weap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t had been defeated by Jap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ni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ran, the Revolution of 1979 and the rise of Islamic fundamentalism resulted i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woman’s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sternization and modernization of the 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turn to many traditional custo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roduction of a democratic form of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xico and India, the Green Revolution has been successful because it h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d democratic re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gricultural produ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western culture and val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economic equality among the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Break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breakup of the Austro-Hungarian Empire and the Soviet Union, new nations were formed. Which generalization accurately reflects the effect of the breakup on these new n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nations are generally too poor and weak to become active members of the United N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nations rarely use their limited resources to wage w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and ethnic differences often lead to instability and violence in new n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determination generally leads to democratic forms of government in new n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olithic or Agricultur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ason for the development of an early civilization in the Tigris-Euphrates river valleys wa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cation protected the people from land inva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flooding left rich soil, which was ideal for fa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ivers provided a direct trade route between Europe and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ivers flowed into the Mediterranean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rope, a long-term effect of the Crusades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ngthening of the feudal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option of Islamic religious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d demand for goods from the 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European iso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iss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ment best describes a change that occurred during both the Renaissance and the Enlighte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udalism became the dominant political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reason and logic were discoura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and science were considered unimpor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questioning spirit and attitude emer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Re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stern Europe, a major immediate effect of the Reformation was 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wed domination of the Catholic Church over the German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olerance of religions other than Christian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 educational opportunities for the middle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in religious unity and in the power of the Catholic Chu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as a result of the Commercial Revolu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in population growth in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of power from Western Europe to Eastern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of feudalism throughout Western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 of European influence overs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ious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“Glorious Revolution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icultural revolution that improved food supplies i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ttle between the Roundheads and the Cavaliers for control of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tablishment of Protestantism as the English stat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asion of England by William of Orange, which overthrew James II with almost no blood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tement best describes the effects of the works of Nicolaus Copernicus, Galileo Galilei, Sir Isaac Newton, and René Descart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eptance of traditional authority was strengthe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ientific method was used to solve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to education was increased by the English gover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n Greek and Roman drama was renew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of the Enlightenment were primarily interested i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relationship between people and their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the divine right the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ting the role of the church in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ng increased power for European monarc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2:41:12Z</dcterms:created>
  <dc:creator>Teacher</dc:creator>
  <dc:description/>
  <dc:language>en-US</dc:language>
  <cp:lastModifiedBy>Teacher</cp:lastModifiedBy>
  <dcterms:modified xsi:type="dcterms:W3CDTF">2006-05-23T12:57:18Z</dcterms:modified>
  <cp:revision>2</cp:revision>
  <dc:subject/>
  <dc:title>Turning Points</dc:title>
</cp:coreProperties>
</file>